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899-EE87-4708-B235-1248D57D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12E-6729-484B-8454-4F940D43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5FD-B9B4-4001-8CB9-966639D8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240-2432-43C3-ADD2-D70BEEE1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4AB6-4469-4355-9F7F-E47B7977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D1B-2F63-4E2A-9656-ACC9502C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F272-9772-46F8-87C1-E8D56D65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F7B4-1A5B-4164-9375-B371CAC5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18A-0E3E-44EB-9F1F-BC77048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BB84-8A0F-4188-B103-A8283C52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7CD7-64DD-4786-8E61-B283F38B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0C1-3C5D-44B9-9C82-E7A0BF69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28F3-320A-4BA8-A7E6-35A7B88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9E00-7150-4941-8073-D0D1189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85A-C7A1-476D-AC06-CC570E4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FF0B-EE2B-453F-9201-0CD72D9F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7C73-76B7-4293-B1B9-3759D05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A5A-A2E1-416C-A790-EEF066BE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5D2-59A4-4BD2-A4A0-4600FBE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48B-D578-4B05-A6FD-51D3BA0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A57-02AA-4C54-8097-5405DB52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FB9-244A-4DA8-9541-65D81FB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23F-7E4B-4CF5-878E-27724F9A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304-654A-4FDF-B299-7028C1C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BBC-366D-4938-AF2F-E958D7B9B1A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FE51-FE0D-46AB-96F1-4DF8C13951D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7:57:49Z</dcterms:created>
  <dc:creator>Cliente</dc:creator>
  <dc:description/>
  <dc:language>en-US</dc:language>
  <cp:lastModifiedBy>Cliente</cp:lastModifiedBy>
  <dcterms:modified xsi:type="dcterms:W3CDTF">2009-07-07T18:04:16Z</dcterms:modified>
  <cp:revision>1</cp:revision>
  <dc:subject/>
  <dc:title>Slide 1</dc:title>
</cp:coreProperties>
</file>